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C2A-2901-4B3B-B344-FCD89B124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1F77-213C-44F4-86E0-E3E18EF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7ED-64D1-4A76-A100-59063CF3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0F32-393D-4303-BCF0-8956DFB6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2110-372B-4711-A921-94499666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60EC-BFC2-4819-8B0E-296F7900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C3F-CE8B-4AE4-A642-8DE9BBE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2C1-D49D-44D6-AD68-4026C2D8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654-D04F-4243-9970-7089881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11C-9E22-48D3-A22E-2651372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9C70-AAF7-4169-9CCA-9C162E55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920-BD00-4E2E-8F26-3F7348AD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0F25-DD54-44C7-AD02-E157ACF9D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oudy Old Style"/>
              </a:rPr>
              <a:t>Medieval Catapul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Word ori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Chaucer and Framed 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Old Style"/>
              </a:rPr>
              <a:t>Elements of pl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38023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oudy Old Style"/>
              </a:rPr>
              <a:t>Catapul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Old Style"/>
              </a:rPr>
              <a:t>The word 'Catapult' comes from the two Greek words "kata" and "pultos". "Kata" means downward and "pultos" refers to a small circular shield which was carried in battle. Katapultos was then taken to mean "shield piercer"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Goudy Old Style"/>
              </a:rPr>
              <a:t>Geoffrey Chauc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Born 1343 in London, Eng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Wrote “The Canterbury Tal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28861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oudy Old Style"/>
              </a:rPr>
              <a:t>Framed 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oudy Old Style"/>
              </a:rPr>
              <a:t>A story inside a s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Elements of P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Exposition – the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ising Action –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max – the most exciting p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esolution – coming down from climax, all the problems are sol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oudy Old Style"/>
              </a:rPr>
              <a:t>Writing Scenario</a:t>
            </a:r>
            <a:r>
              <a:rPr b="0" lang="en-US" sz="6000" spc="-1" strike="noStrike">
                <a:solidFill>
                  <a:srgbClr val="000000"/>
                </a:solidFill>
                <a:latin typeface="Goudy Old Style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King Edward I has been having trouble with the Scots.  He needs help protecting his castles from the invading people from Scotland.  Write a story using the members of your group as characters who use your newly named “catapult” to protect the king’s castle.  Remember to give your framed story a beginning, a middle, and an end, as well as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8:38:03Z</dcterms:created>
  <dc:creator>OSU</dc:creator>
  <dc:description/>
  <dc:language>en-US</dc:language>
  <cp:lastModifiedBy>OSU</cp:lastModifiedBy>
  <dcterms:modified xsi:type="dcterms:W3CDTF">2008-07-21T19:30:58Z</dcterms:modified>
  <cp:revision>3</cp:revision>
  <dc:subject/>
  <dc:title>Medieval Catapults</dc:title>
</cp:coreProperties>
</file>